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CEF-2845-4439-A5C0-A5309697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7A9-5038-4CD1-8E48-862356D1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755-A1E0-4361-B4C4-B593B57E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8FF-3BC6-461F-B968-BDCB9EB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372-BC9E-475F-ADD8-15ED90C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011-6052-47DF-8CFD-E9D0514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22EA-EE17-4DFD-BB66-10EA6C82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6FFF-178E-49B0-930C-49D1909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6B9-7982-4363-BEA8-4A48A51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2DA1-EC87-4285-99EF-E03FF6F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131A-3D9C-462A-90F0-14B83E7E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81F-45C3-4C19-9CA3-2B0610B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3F4-3629-4502-9916-A316D7D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4686-EBE3-41ED-B421-A4CA5A1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6F25-87EA-4908-858A-2934E13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F5D5-2AA6-46F7-A5A8-3D3A07D3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2995-03A9-46B7-82C7-340E357B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7C8-5123-423C-8F75-D4E9E3A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D57-C2E9-4074-8F70-FB2E4AA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B8D-AFC5-40A9-86F5-C3B74E5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B56-D3A6-4DB6-973F-1AB44701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434-47EE-43CE-88BB-EBB4431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A99-E470-45F2-B726-9D1980F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3D7-10C9-4B30-BF11-96A3A17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1B3D-5CCD-476F-81EF-0DB0C81672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611-42CD-4EA2-ACD1-71585204B0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Open Archiving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@ 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Virginia Tech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DLRL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193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ssein Sulem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www.dlib.vt.ed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going Pro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IAN OAI input/output fil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ai_marc definition, encoding and conver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l, JAVA code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DLTD Union Coll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T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ysD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going Projects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 Digital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 digital document arch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TC and iLumi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ributed DL for educational mater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143000" y="1828800"/>
            <a:ext cx="7314840" cy="1904760"/>
            <a:chOff x="1143000" y="1828800"/>
            <a:chExt cx="7314840" cy="1904760"/>
          </a:xfrm>
        </p:grpSpPr>
        <p:sp>
          <p:nvSpPr>
            <p:cNvPr id="248" name=""/>
            <p:cNvSpPr/>
            <p:nvPr/>
          </p:nvSpPr>
          <p:spPr>
            <a:xfrm>
              <a:off x="114300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028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3828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592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3356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156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920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648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2448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3020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28200" y="201888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548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312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21120" y="259056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876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640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4400" y="316224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04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76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640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1440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204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0932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0732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96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260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60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0596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3960" y="201888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0160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9924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97240" y="259056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9488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216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90160" y="316224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8780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93880" y="182880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116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8880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86800" y="240012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8444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208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0080" y="297180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36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7500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108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7836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672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7400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164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964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728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6492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6292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819520" y="3962520"/>
            <a:ext cx="41148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4038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A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590920"/>
            <a:ext cx="6781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ts and lots of little archives all over the 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5257800"/>
            <a:ext cx="2209680" cy="825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ational ETD Arch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5257800"/>
            <a:ext cx="2895480" cy="11912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ational Teaching Resources Arch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tc 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t’s all Folks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99840" y="3657240"/>
            <a:ext cx="5791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stions ? Comments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are we involve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ed Digital Library of Theses and Dissertations (NDLT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IAN Information Retrieval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er Science Teaching Center (CST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taPle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haracterization Reposit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-Imagebase, CDDC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pha Test Col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 ETD Coll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at university libr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cessible through remote OAI interf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ximately 3000 rec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DLT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ributed digital libr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llingness of participants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1722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sues in OAI-Complia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eaning of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ights management and own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MARC, rfc1807 and D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mption toke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ing protocols and lay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cal Requir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ed in Perl for flexibility and platform-independ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iginal implementation took 3 hours, after a first reading of protocol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ository Explor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 consistency for NDLT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ine vs Off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and XSD tes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active brow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c test su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st of demonstration arch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image11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47080" cy="5956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00:40:15Z</dcterms:created>
  <dc:creator>DLRL</dc:creator>
  <dc:description/>
  <dc:language>en-US</dc:language>
  <cp:lastModifiedBy>Hussein Suleman</cp:lastModifiedBy>
  <dcterms:modified xsi:type="dcterms:W3CDTF">2001-01-23T03:14:24Z</dcterms:modified>
  <cp:revision>7</cp:revision>
  <dc:subject/>
  <dc:title>Open Archives  @  Virginia Tech DLRL</dc:title>
</cp:coreProperties>
</file>